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22C-7211-43FB-99DA-64812F1D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237-BFBB-4A44-A4E2-81D8ACC6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55D-678E-45B3-BF5C-625FD813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115-020B-47ED-A91A-1D6DA0DF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CCB2-0230-46DE-8330-737E3431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B87-F7F8-4BC2-ACDE-B80AC567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D198-0BDF-4124-9B5A-8C0AEC50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F900-49E0-4BB8-A812-013E9144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38A-4CC9-44BC-9FE5-B8629AB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609A-1709-498F-B59A-8B06907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4C1-C7F7-4E0E-AE36-C77F843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FE2-C253-466F-BDCC-3721377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F06-22D1-41AC-B9AD-1CB1AD8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B41-13D9-41A2-B319-4C4A5DD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58E8-0865-4FA4-8BAF-31825730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5AE-C22A-46B6-B361-B058ED5B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457-B646-4987-B336-AB4C90F1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FE6-1228-48CB-B452-BD81E4B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9EF-97B9-471B-8995-2DBE70D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36D-8453-4AD9-833A-325BD7DF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E9D-992E-4D57-AEF0-7404D11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3D7-BD0D-4A90-A41A-A5EFEB05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960-8A2B-45A7-A03A-D2D3710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77E-97B3-4AE6-920E-5BE7119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C2D1-3967-43EA-B1A2-D0F21A486B8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5FB-DB36-4EA7-9B88-BDB18191A1C8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MEMPHYS M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sent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638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t Generato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Tahoma"/>
              </a:rPr>
              <a:t>NU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am,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tmospheric &amp; Proton Dec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imul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sion 0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dapted from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 4 cod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used by M. Fechner et al. for T2K-WC-2km. The simulation was x-checked using SK &amp; K2K data.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Water &amp; PMT &amp; Black sheet optical paramet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terface with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OpenScientist v16r0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framework (G. Barrand@LAL) provided us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istribution ki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including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Geant4 &amp; CLHEP &amp; AIDA-IO implementation to RIO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also HDF5, XM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3 modes of running in the same framework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just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Viewing, Batch processing, AIDA_ROOT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260280"/>
            <a:ext cx="76388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t version 7 (Cont’ed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vent info from 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imary + non-Optical photons track inf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Hits: each PM maintain a list of arrival time of optical photons detected (i.e photo-cathod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uture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Code review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improve the geometry implementation, clean up the patches used to adapt the code from T2K-WC to MEMPHYS use c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the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electronics simulatio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ork in collaboration with B. Genolini (IPNO) in the context of PMm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mplement a </a:t>
            </a:r>
            <a:r>
              <a:rPr b="0" lang="en-GB" sz="2000" spc="-1" strike="noStrike">
                <a:solidFill>
                  <a:srgbClr val="00ff00"/>
                </a:solidFill>
                <a:latin typeface="Tahoma"/>
              </a:rPr>
              <a:t>Data Model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be able to do “replay” event-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440" y="333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2km WC Geo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648000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302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814880" y="2852640"/>
            <a:ext cx="927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5720" y="915840"/>
            <a:ext cx="219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  <a:ea typeface="Arial"/>
              </a:rPr>
              <a:t>→e</a:t>
            </a:r>
            <a:r>
              <a:rPr b="0" lang="fr-FR" sz="3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10520" y="58770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3357720"/>
            <a:ext cx="2313000" cy="14655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active histogram to identify the e Michel optical photon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" y="186048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ly detected op. phor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5400720" cy="393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2209" t="0" r="1341" b="0"/>
          <a:stretch/>
        </p:blipFill>
        <p:spPr>
          <a:xfrm>
            <a:off x="6170760" y="3959280"/>
            <a:ext cx="2433600" cy="177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7800" y="6308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PHYS v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7080" y="692280"/>
            <a:ext cx="591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atmospheric (1-10Ge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2:20:59Z</dcterms:created>
  <dc:creator>J.E Campagne</dc:creator>
  <dc:description/>
  <dc:language>en-US</dc:language>
  <cp:lastModifiedBy>J.E Campagne</cp:lastModifiedBy>
  <dcterms:modified xsi:type="dcterms:W3CDTF">2007-06-19T09:56:53Z</dcterms:modified>
  <cp:revision>6</cp:revision>
  <dc:subject/>
  <dc:title>MEMPHYS MC</dc:title>
</cp:coreProperties>
</file>